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A7A3-1F38-42AC-99BE-C6A4B66DF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1886-1493-4571-AB81-A6CDAF338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921-682E-421F-94D7-DC3B90B1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1FB-D04A-4141-ABF9-49807530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67478-8030-413D-B19C-C7B5E49D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A8E5A-9666-459F-818F-61A1518D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FB7E7-44E6-4536-9261-16D6C057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35376-EEDA-4348-8F2F-F31A5CB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0534D-06EC-4FC3-B5DF-05E1718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15218-4566-49B3-AAD2-EB1A1FC2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4A937-17F4-4A2D-BEB2-53CEE71D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A94A0-70C9-42D2-864B-52BDEA5D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7BAB5-4AE7-4C90-876A-A69D170B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08FF0-C769-4BA9-9AA4-C562BB69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944-E325-4ADB-9CA0-66F95773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6DBAE-6087-4A61-9FBE-591B0D5C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EA97D-6C97-412E-ADBC-78C1491F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90065-257F-432D-86F0-BE840829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62EB3-695E-4EB6-86A0-D4BC30E9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ECE1E-B2FA-40EE-B5D4-2F9D1ED7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38877-2AEF-4067-BB36-4C9A627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9B81B-3DCA-4F52-9D27-021916D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5696F-569B-4CB0-AF20-8E38DAD7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9F718-BCC4-4577-8A91-9BFCF236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59B3E-BCDF-42B2-BEA6-7BD422D8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F7C-F65F-44BF-AD95-2B3C09F8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EB591-533B-4E9A-9866-A1F56B6D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C6BE2-2BC2-4F1F-A44D-4B8C24E3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D88FC-C66A-4E7B-849E-A05F18E7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B7EAD-209A-427F-86E7-EF5384E0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0BEBA-8804-4BD7-A3CD-56B55EEB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A7FB1-83FC-46C4-990E-3F12C90F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D554A-F0A7-46EB-A17C-D5FBE55F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2C262-AA95-4A55-93BE-BCCE9C5B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99A34-121B-4273-A881-1247922A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65424-48CE-474A-8CFA-9ADE64BC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4A9E-8F7E-4C24-A0FD-DD61ACD7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F9C18-B842-4601-AA73-F842EB84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57AFB-B302-4A83-B560-91FFBAC7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961A3-9161-4076-9981-F9692E71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9FB04-4631-4D44-9246-99238226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5BE5B-E7A0-4452-9AB2-4418C463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886AA-0FFC-4173-80BB-6EB4DC37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079B1-083E-4CBC-83AD-686EAC94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B6158-3B61-4F59-9DBE-8B6E9EEA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AF7C8-E1E7-4D42-A734-7803602A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809A6-7108-4C44-888F-9CC0E56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806-CB12-4AC7-8A8E-A8B74F6F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A7AD6-D326-43FF-9F77-7E400E3E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5EE95-3EAA-433A-8EFA-450D5D3A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ED549-0AED-49A1-BDF3-2977DB9F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4C0F6-25DF-4114-9628-F63EA95F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4D090-1CC5-44C6-969C-5D97C452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765C-B71F-4A81-81B6-533167C4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8354-D89D-421B-B36D-CE192E18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882F-E35E-49B8-8387-186FCB45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2EFC-19C2-4542-A23C-583FA0C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0D48-7FF7-48C1-8A35-7CDE4297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03E-7C69-4421-B1D8-8EB74CC3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65EC-894B-4581-BD5A-EE26E31A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B8E8-56F3-46B4-820B-6EA99F2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8362-28FD-4FBD-BF12-637E7B27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04B3-5D98-499F-BB0F-02F1B09E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CD87-E63B-4B65-B8ED-E5C3E913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9016-8388-4EAC-8595-9FB0E15B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00F0-1620-472D-B9B2-E5931371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70CF-24D2-43A9-9EBD-B1E354AB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B8AC-2F41-48CE-8B5D-A0474D40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10F5-E859-4F92-82B5-FE63AA59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DAE-AECF-49B5-9060-063D988B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B4C1-D64B-462E-BAAB-9839509E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9F0F-7F56-43F9-BFED-CA885DA1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F726-BDC8-4562-BA49-2DBBCB12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659C-A3EE-406B-B79D-4C80AF2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05F4-7D54-40C1-A9CD-45E05F9A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6166-7403-4A2B-A7E6-B853887A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D16A-F6D3-4BA8-9A62-DFAEE295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3EA9-4A85-409D-B805-C2E3346A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E2B19-6888-4D39-8585-A9E32629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64042-2B58-46BE-9C4E-405CC68D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B16-4E8E-48CB-9801-B6CC0D51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63B7-77EB-402F-B250-4C0F7033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2631-F445-4C88-BAA4-88B319AE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A32A-2F5C-45ED-AC5B-05F9DEA4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23FC2-465D-4854-84CF-404E45FE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F37B-7B9E-4844-A7E1-347CFA0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A941-60B8-445B-AE79-9DF456CC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57640-D02A-4F34-A2FC-9374B776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10EB3-7D95-4F90-A8AA-65675F22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5B50-F7DE-47A5-9485-5A06C6BF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8AB2-B148-4BC2-9F23-D8546D40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9A3-F0F5-4DFE-8606-F9C2D09C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B284-FBA5-4274-93C8-AFFF09A4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DA559-6A7D-481E-8499-6B8D60C3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B68C-33C3-4A04-BDFE-D8258C6D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B1BD2-00CC-4E2A-B081-F89AC623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E2EBA-9030-492F-BE52-3ACBC51D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DBB1B-BF7C-43A7-ACC7-0999C65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BDFD9-91CE-43A0-937A-585DD2F5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8A354-6DA3-4CA1-8ADF-DCC6C48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4242-9493-4F8D-8F4D-12C92E78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9468F-CFFA-446B-805B-EDE84B37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5F3-44F9-46A7-8916-9AD26EAA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1F013-43CC-4ECE-A9A5-C2492350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40527-D811-40F1-960C-04A31790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DFBD0-C3E7-4F24-A66C-D5C94726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011C4-494B-4D43-97C5-AAECF5E8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F9AC7-A227-4E94-A1C4-03E94A0A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79AA-5F7C-429C-A924-CF2D3BF7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DFD3-2F8E-4153-9646-8377963C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A529-DE8B-4FA0-A027-3FA08DD2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81242-AB2C-449F-8CEE-A3253BF0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FE75B-753B-4FAA-84A4-DB0B7923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686-1BB8-4C4E-AF16-479D67F1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7338E-E2D9-4BAE-AA6D-E856567C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733FE-4EAB-4E5F-815F-E3904836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C7C9-3B27-47E8-A608-8B22B242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F0B01-E1D1-4F05-96C4-B917A10D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63F61-C867-4435-A705-02E4E3BF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81C19-072E-4643-8F24-837EE850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B86DE-9688-4144-8CD5-B198E2E7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FD81-878A-4F13-997D-41A7C1C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72EEB-1C78-4F28-9948-E67A10B8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2106-1B10-469D-8727-7E60E2C1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AE6-B380-441D-8DE6-8C23798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92BEA-F983-4095-8828-64B955A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69F6C-4E17-49C9-A1FC-2B22786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5302E-D758-4BF8-921D-20056B7B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C20E6-A112-47BF-A5EA-7E7C6969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049A4-964E-4FAA-A588-0245788A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8B0F8-559B-4528-B4AA-5B32FD49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8FA0F-F1D6-4ACE-805B-0EC4EC4C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F094D-0826-4711-8CD3-D9822A3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C6A74-D3E7-43C3-AC65-0F25D666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342EA-EF68-4C70-9D56-A07F38F6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876-D352-496B-9D1E-AB09106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939AD-357D-4E7D-972A-236CACAC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81E9-5ED4-49F1-B836-9339F07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BF8BE-AD32-465E-9A5E-11DEE48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5BC00-97AF-44FC-B98B-EAB8865F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4BE0B-8BFB-4C8C-B91E-6DCC85D6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1ACF6-098E-495D-AE76-01E5CFE3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2F50D-C8F1-4EAD-910E-11F2F887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8DD3B-7711-4B37-9E03-29D4E1D6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BBE22-A704-4FE8-BAEF-A3A50330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FE3D3-68F0-4953-897B-D8AD5C0C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D5BD-E563-4477-9B12-634CF47F60F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BEA6-8E36-4EA4-B4EA-4A27FFA08E0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33E7-5C8A-4E6A-AA3D-F0DFBC66020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4CE3-8516-4F50-9D88-8A7D7250DC5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DE3D-3B01-4BEE-AF8D-E9ED4E9D647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390C-1727-498C-8975-4E17CC21E31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0382-26B7-47BB-8C26-067681F57E1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FC3-C299-450F-8B77-E62DE8C1ABE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5D1B-CE72-4E1B-8102-5D23B5DE855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2C6A-E6BD-4918-86CB-24F108BEE25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73BB-6208-42FC-9722-D1301E69F46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AB5A-7573-4AED-B19B-C71FA921EB4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40 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 of behavior in animals might be triggered by cold temperatur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 of behaviors might be triggered in hot temperatur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2 examples of negative feedback. List 2 examples of positive feed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main type of chemical messenger in the endocrine system? The nervou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covery Video: Endocrine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81160" y="1122120"/>
            <a:ext cx="4216320" cy="63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t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81160" y="1762200"/>
            <a:ext cx="42163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-sol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nd to receptors on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plasma membrane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&amp; triggers signal transduction path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fects protein activity </a:t>
            </a:r>
            <a:r>
              <a:rPr b="0" lang="en-US" sz="2600" spc="-1" strike="noStrike">
                <a:solidFill>
                  <a:srgbClr val="5918bb"/>
                </a:solidFill>
                <a:latin typeface="Calibri"/>
              </a:rPr>
              <a:t>already pres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e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pid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-li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g. oxytocin, insulin, epineph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45080" y="1122120"/>
            <a:ext cx="4248000" cy="63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tero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5080" y="1762200"/>
            <a:ext cx="4248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pid-sol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ers cell &amp; binds to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intracellula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p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es change in </a:t>
            </a:r>
            <a:r>
              <a:rPr b="0" lang="en-US" sz="2600" spc="-1" strike="noStrike">
                <a:solidFill>
                  <a:srgbClr val="5918bb"/>
                </a:solidFill>
                <a:latin typeface="Calibri"/>
              </a:rPr>
              <a:t>gene express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protein synthes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lower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er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g. androgens (testosterone), estrogen, progesterone, cortis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45_06ReceptorLocation_2-L.jpg"/>
          <p:cNvPicPr/>
          <p:nvPr/>
        </p:nvPicPr>
        <p:blipFill>
          <a:blip r:embed="rId1"/>
          <a:stretch/>
        </p:blipFill>
        <p:spPr>
          <a:xfrm>
            <a:off x="2008080" y="136440"/>
            <a:ext cx="512784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853920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pinephri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one hormon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many eff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3" descr="45_09HormoneEffects-L.jpg"/>
          <p:cNvPicPr/>
          <p:nvPr/>
        </p:nvPicPr>
        <p:blipFill>
          <a:blip r:embed="rId1"/>
          <a:stretch/>
        </p:blipFill>
        <p:spPr>
          <a:xfrm>
            <a:off x="1460520" y="892080"/>
            <a:ext cx="6222960" cy="479268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"/>
          <p:cNvSpPr/>
          <p:nvPr/>
        </p:nvSpPr>
        <p:spPr>
          <a:xfrm>
            <a:off x="825480" y="5707080"/>
            <a:ext cx="280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r cells break down glycogen and release gluc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3441600" y="5724360"/>
            <a:ext cx="23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od vessels to skeletal muscles di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5952960" y="5729400"/>
            <a:ext cx="224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od vessels to intestines constr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309600" y="1339920"/>
            <a:ext cx="2855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309600" y="4097160"/>
            <a:ext cx="28065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9"/>
          <p:cNvSpPr/>
          <p:nvPr/>
        </p:nvSpPr>
        <p:spPr>
          <a:xfrm>
            <a:off x="1558800" y="2050920"/>
            <a:ext cx="304920" cy="18288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457200" y="127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ter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11" descr="45_14BrainEndoGlands-L.jpg"/>
          <p:cNvPicPr/>
          <p:nvPr/>
        </p:nvPicPr>
        <p:blipFill>
          <a:blip r:embed="rId1"/>
          <a:stretch/>
        </p:blipFill>
        <p:spPr>
          <a:xfrm>
            <a:off x="3373560" y="952560"/>
            <a:ext cx="54165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309600" y="1339920"/>
            <a:ext cx="2855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309600" y="4097160"/>
            <a:ext cx="28065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3470400" y="1103400"/>
            <a:ext cx="527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s info from nerves and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es endocrin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3532320" y="2449440"/>
            <a:ext cx="561168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53735"/>
                </a:solidFill>
                <a:uFillTx/>
                <a:latin typeface="Arial"/>
                <a:ea typeface="Arial"/>
              </a:rPr>
              <a:t>Posterior pituitary gland</a:t>
            </a: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xytoc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contract uterine muscles, eject milk in nu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idiuretic Hormone (ADH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mot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retention by kidn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3479760" y="4440240"/>
            <a:ext cx="56642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53735"/>
                </a:solidFill>
                <a:uFillTx/>
                <a:latin typeface="Arial"/>
                <a:ea typeface="Arial"/>
              </a:rPr>
              <a:t>Anterior pituitary gland</a:t>
            </a: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icle-stimulating hormone (FSH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velopment of ovarian follicles (eggs); promote sperm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teinizing hormone (LH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gger ovulation; stimulate testosterone production in te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9"/>
          <p:cNvSpPr/>
          <p:nvPr/>
        </p:nvSpPr>
        <p:spPr>
          <a:xfrm>
            <a:off x="1558800" y="2050920"/>
            <a:ext cx="304920" cy="18288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eft Brace 8"/>
          <p:cNvSpPr/>
          <p:nvPr/>
        </p:nvSpPr>
        <p:spPr>
          <a:xfrm>
            <a:off x="3236760" y="1123920"/>
            <a:ext cx="358920" cy="927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40320 h 927000"/>
              <a:gd name="textAreaBottom" fmla="*/ 886680 h 92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1"/>
                  <a:pt x="10800" y="3002"/>
                </a:cubicBezTo>
                <a:lnTo>
                  <a:pt x="10800" y="8086"/>
                </a:lnTo>
                <a:cubicBezTo>
                  <a:pt x="10800" y="9587"/>
                  <a:pt x="5400" y="11088"/>
                  <a:pt x="0" y="11088"/>
                </a:cubicBezTo>
                <a:cubicBezTo>
                  <a:pt x="5400" y="11088"/>
                  <a:pt x="10800" y="12589"/>
                  <a:pt x="10800" y="14090"/>
                </a:cubicBezTo>
                <a:lnTo>
                  <a:pt x="10800" y="18598"/>
                </a:lnTo>
                <a:cubicBezTo>
                  <a:pt x="10800" y="2009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eft Brace 9"/>
          <p:cNvSpPr/>
          <p:nvPr/>
        </p:nvSpPr>
        <p:spPr>
          <a:xfrm>
            <a:off x="3143160" y="2446200"/>
            <a:ext cx="514440" cy="4189680"/>
          </a:xfrm>
          <a:custGeom>
            <a:avLst/>
            <a:gdLst>
              <a:gd name="textAreaLeft" fmla="*/ 328680 w 514440"/>
              <a:gd name="textAreaRight" fmla="*/ 514800 w 514440"/>
              <a:gd name="textAreaTop" fmla="*/ 57600 h 4189680"/>
              <a:gd name="textAreaBottom" fmla="*/ 4132080 h 418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7"/>
                  <a:pt x="10800" y="953"/>
                </a:cubicBezTo>
                <a:lnTo>
                  <a:pt x="10800" y="9412"/>
                </a:lnTo>
                <a:cubicBezTo>
                  <a:pt x="10800" y="9889"/>
                  <a:pt x="5400" y="10365"/>
                  <a:pt x="0" y="10365"/>
                </a:cubicBezTo>
                <a:cubicBezTo>
                  <a:pt x="5400" y="10365"/>
                  <a:pt x="10800" y="10842"/>
                  <a:pt x="10800" y="11318"/>
                </a:cubicBezTo>
                <a:lnTo>
                  <a:pt x="10800" y="20647"/>
                </a:lnTo>
                <a:cubicBezTo>
                  <a:pt x="10800" y="2112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127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ter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thalam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gulat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osterior Pituit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0" descr="45_15PostPituitaryHorm-L.jpg"/>
          <p:cNvPicPr/>
          <p:nvPr/>
        </p:nvPicPr>
        <p:blipFill>
          <a:blip r:embed="rId1"/>
          <a:stretch/>
        </p:blipFill>
        <p:spPr>
          <a:xfrm>
            <a:off x="1714680" y="1211400"/>
            <a:ext cx="5582880" cy="54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thalam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gulat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nterior Pituit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39" descr="45_16AntPituitaryHorm-L.jpg"/>
          <p:cNvPicPr/>
          <p:nvPr/>
        </p:nvPicPr>
        <p:blipFill>
          <a:blip r:embed="rId1"/>
          <a:stretch/>
        </p:blipFill>
        <p:spPr>
          <a:xfrm>
            <a:off x="1027080" y="1127160"/>
            <a:ext cx="721512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45_T01aEndocrineGlands-L.jpg"/>
          <p:cNvPicPr/>
          <p:nvPr/>
        </p:nvPicPr>
        <p:blipFill>
          <a:blip r:embed="rId1"/>
          <a:stretch/>
        </p:blipFill>
        <p:spPr>
          <a:xfrm>
            <a:off x="0" y="1440"/>
            <a:ext cx="92124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45_T01bEndocrineGlands-L.jpg"/>
          <p:cNvPicPr/>
          <p:nvPr/>
        </p:nvPicPr>
        <p:blipFill>
          <a:blip r:embed="rId1"/>
          <a:stretch/>
        </p:blipFill>
        <p:spPr>
          <a:xfrm>
            <a:off x="0" y="414360"/>
            <a:ext cx="912492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and contrast the nervous system with the endocrine system. (Focus on the effects on the b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neurosecretory cell.  What is its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n example of positive and negative feedback in the endocrine system.  How do they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630360"/>
            <a:ext cx="843912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9760" indent="-395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feedback system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yroid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 glucos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760" indent="-395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feedback syst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ytocin (birthing process; release of milk/suck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9948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OFLIX: HOMEOSTASIS – BLOOD SU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sulin &amp; Glucag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ntrol blood glucos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7" descr="45_13_InsulinGlucagon-L.jpg"/>
          <p:cNvPicPr/>
          <p:nvPr/>
        </p:nvPicPr>
        <p:blipFill>
          <a:blip r:embed="rId1"/>
          <a:stretch/>
        </p:blipFill>
        <p:spPr>
          <a:xfrm>
            <a:off x="1457280" y="798480"/>
            <a:ext cx="654840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 of Blood Gluc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3246480" y="1031760"/>
            <a:ext cx="2208240" cy="1047960"/>
            <a:chOff x="3246480" y="1031760"/>
            <a:chExt cx="2208240" cy="1047960"/>
          </a:xfrm>
        </p:grpSpPr>
        <p:sp>
          <p:nvSpPr>
            <p:cNvPr id="555" name="Rounded Rectangle 6"/>
            <p:cNvSpPr/>
            <p:nvPr/>
          </p:nvSpPr>
          <p:spPr>
            <a:xfrm>
              <a:off x="3246480" y="1031760"/>
              <a:ext cx="2208240" cy="1047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ounded Rectangle 4"/>
            <p:cNvSpPr/>
            <p:nvPr/>
          </p:nvSpPr>
          <p:spPr>
            <a:xfrm>
              <a:off x="3297240" y="1082520"/>
              <a:ext cx="210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High blood gluc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8"/>
          <p:cNvGrpSpPr/>
          <p:nvPr/>
        </p:nvGrpSpPr>
        <p:grpSpPr>
          <a:xfrm>
            <a:off x="5338800" y="2593800"/>
            <a:ext cx="3524040" cy="873360"/>
            <a:chOff x="5338800" y="2593800"/>
            <a:chExt cx="3524040" cy="873360"/>
          </a:xfrm>
        </p:grpSpPr>
        <p:sp>
          <p:nvSpPr>
            <p:cNvPr id="558" name="Rounded Rectangle 9"/>
            <p:cNvSpPr/>
            <p:nvPr/>
          </p:nvSpPr>
          <p:spPr>
            <a:xfrm>
              <a:off x="5338800" y="2593800"/>
              <a:ext cx="3524040" cy="873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ounded Rectangle 4"/>
            <p:cNvSpPr/>
            <p:nvPr/>
          </p:nvSpPr>
          <p:spPr>
            <a:xfrm>
              <a:off x="5387760" y="2636640"/>
              <a:ext cx="342576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alibri"/>
                </a:rPr>
                <a:t>Insulin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released from pancr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11"/>
          <p:cNvGrpSpPr/>
          <p:nvPr/>
        </p:nvGrpSpPr>
        <p:grpSpPr>
          <a:xfrm>
            <a:off x="5033880" y="3755880"/>
            <a:ext cx="3826080" cy="1587600"/>
            <a:chOff x="5033880" y="3755880"/>
            <a:chExt cx="3826080" cy="1587600"/>
          </a:xfrm>
        </p:grpSpPr>
        <p:sp>
          <p:nvSpPr>
            <p:cNvPr id="561" name="Rounded Rectangle 12"/>
            <p:cNvSpPr/>
            <p:nvPr/>
          </p:nvSpPr>
          <p:spPr>
            <a:xfrm>
              <a:off x="5033880" y="3755880"/>
              <a:ext cx="3826080" cy="1587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ounded Rectangle 4"/>
            <p:cNvSpPr/>
            <p:nvPr/>
          </p:nvSpPr>
          <p:spPr>
            <a:xfrm>
              <a:off x="5094000" y="3832560"/>
              <a:ext cx="370548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Body cells take up gluc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iver stores glucose as </a:t>
              </a:r>
              <a:r>
                <a:rPr b="1" lang="en-US" sz="2400" spc="-1" strike="noStrike">
                  <a:solidFill>
                    <a:srgbClr val="00ff00"/>
                  </a:solidFill>
                  <a:latin typeface="Calibri"/>
                </a:rPr>
                <a:t>glyco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14"/>
          <p:cNvGrpSpPr/>
          <p:nvPr/>
        </p:nvGrpSpPr>
        <p:grpSpPr>
          <a:xfrm>
            <a:off x="3314880" y="5529240"/>
            <a:ext cx="2185920" cy="1136520"/>
            <a:chOff x="3314880" y="5529240"/>
            <a:chExt cx="2185920" cy="1136520"/>
          </a:xfrm>
        </p:grpSpPr>
        <p:sp>
          <p:nvSpPr>
            <p:cNvPr id="564" name="Rounded Rectangle 15"/>
            <p:cNvSpPr/>
            <p:nvPr/>
          </p:nvSpPr>
          <p:spPr>
            <a:xfrm>
              <a:off x="3314880" y="5529240"/>
              <a:ext cx="2185920" cy="113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ounded Rectangle 4"/>
            <p:cNvSpPr/>
            <p:nvPr/>
          </p:nvSpPr>
          <p:spPr>
            <a:xfrm>
              <a:off x="3367080" y="5584680"/>
              <a:ext cx="208116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Blood glucose dro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210960" y="4129200"/>
            <a:ext cx="3033720" cy="930240"/>
            <a:chOff x="210960" y="4129200"/>
            <a:chExt cx="3033720" cy="930240"/>
          </a:xfrm>
        </p:grpSpPr>
        <p:sp>
          <p:nvSpPr>
            <p:cNvPr id="567" name="Rounded Rectangle 18"/>
            <p:cNvSpPr/>
            <p:nvPr/>
          </p:nvSpPr>
          <p:spPr>
            <a:xfrm>
              <a:off x="210960" y="4129200"/>
              <a:ext cx="3033720" cy="9302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ounded Rectangle 4"/>
            <p:cNvSpPr/>
            <p:nvPr/>
          </p:nvSpPr>
          <p:spPr>
            <a:xfrm>
              <a:off x="255240" y="4174920"/>
              <a:ext cx="29451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alibri"/>
                </a:rPr>
                <a:t>Glucagon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released from pancr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192240" y="2300400"/>
            <a:ext cx="3066840" cy="1407960"/>
            <a:chOff x="192240" y="2300400"/>
            <a:chExt cx="3066840" cy="1407960"/>
          </a:xfrm>
        </p:grpSpPr>
        <p:sp>
          <p:nvSpPr>
            <p:cNvPr id="570" name="Rounded Rectangle 21"/>
            <p:cNvSpPr/>
            <p:nvPr/>
          </p:nvSpPr>
          <p:spPr>
            <a:xfrm>
              <a:off x="192240" y="2300400"/>
              <a:ext cx="3066840" cy="1407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ounded Rectangle 4"/>
            <p:cNvSpPr/>
            <p:nvPr/>
          </p:nvSpPr>
          <p:spPr>
            <a:xfrm>
              <a:off x="255600" y="2368440"/>
              <a:ext cx="294012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iver breaks down glycogen and releases </a:t>
              </a:r>
              <a:r>
                <a:rPr b="1" lang="en-US" sz="2400" spc="-1" strike="noStrike">
                  <a:solidFill>
                    <a:srgbClr val="fac090"/>
                  </a:solidFill>
                  <a:latin typeface="Calibri"/>
                </a:rPr>
                <a:t>glucose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into 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2" name="Straight Arrow Connector 24"/>
          <p:cNvCxnSpPr>
            <a:stCxn id="555" idx="3"/>
            <a:endCxn id="559" idx="0"/>
          </p:cNvCxnSpPr>
          <p:nvPr/>
        </p:nvCxnSpPr>
        <p:spPr>
          <a:xfrm>
            <a:off x="5454360" y="1555560"/>
            <a:ext cx="1647000" cy="108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3" name="Straight Arrow Connector 25"/>
          <p:cNvCxnSpPr>
            <a:stCxn id="558" idx="2"/>
            <a:endCxn id="562" idx="0"/>
          </p:cNvCxnSpPr>
          <p:nvPr/>
        </p:nvCxnSpPr>
        <p:spPr>
          <a:xfrm flipH="1">
            <a:off x="6946560" y="3467160"/>
            <a:ext cx="154800" cy="36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4" name="Straight Arrow Connector 32"/>
          <p:cNvCxnSpPr>
            <a:stCxn id="562" idx="2"/>
            <a:endCxn id="564" idx="3"/>
          </p:cNvCxnSpPr>
          <p:nvPr/>
        </p:nvCxnSpPr>
        <p:spPr>
          <a:xfrm flipH="1">
            <a:off x="5500080" y="5266800"/>
            <a:ext cx="1446840" cy="83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5" name="Straight Arrow Connector 35"/>
          <p:cNvCxnSpPr>
            <a:stCxn id="564" idx="1"/>
            <a:endCxn id="567" idx="2"/>
          </p:cNvCxnSpPr>
          <p:nvPr/>
        </p:nvCxnSpPr>
        <p:spPr>
          <a:xfrm flipH="1" flipV="1">
            <a:off x="1726920" y="5059440"/>
            <a:ext cx="158832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6" name="Straight Arrow Connector 38"/>
          <p:cNvCxnSpPr>
            <a:stCxn id="570" idx="0"/>
            <a:endCxn id="555" idx="1"/>
          </p:cNvCxnSpPr>
          <p:nvPr/>
        </p:nvCxnSpPr>
        <p:spPr>
          <a:xfrm flipV="1">
            <a:off x="1725120" y="1555560"/>
            <a:ext cx="1521720" cy="74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39"/>
          <p:cNvCxnSpPr>
            <a:stCxn id="567" idx="0"/>
            <a:endCxn id="570" idx="2"/>
          </p:cNvCxnSpPr>
          <p:nvPr/>
        </p:nvCxnSpPr>
        <p:spPr>
          <a:xfrm flipH="1" flipV="1">
            <a:off x="1724760" y="3707640"/>
            <a:ext cx="2520" cy="421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3186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I diabe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0%):deficiency of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ulin-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immune disord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a cells of pancreas destro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II diabe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90%): failure of target cells to respond to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insulin 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ulin produc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lls don’t respond (defect in insulin receptor or response pathw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k factors: obesity, lack of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4"/>
          <p:cNvSpPr/>
          <p:nvPr/>
        </p:nvSpPr>
        <p:spPr>
          <a:xfrm>
            <a:off x="181080" y="206280"/>
            <a:ext cx="36828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roid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4"/>
          <p:cNvGrpSpPr/>
          <p:nvPr/>
        </p:nvGrpSpPr>
        <p:grpSpPr>
          <a:xfrm>
            <a:off x="4481640" y="250920"/>
            <a:ext cx="4662360" cy="6222960"/>
            <a:chOff x="4481640" y="250920"/>
            <a:chExt cx="4662360" cy="6222960"/>
          </a:xfrm>
        </p:grpSpPr>
        <p:pic>
          <p:nvPicPr>
            <p:cNvPr id="582" name="Picture 45" descr=""/>
            <p:cNvPicPr/>
            <p:nvPr/>
          </p:nvPicPr>
          <p:blipFill>
            <a:blip r:embed="rId1"/>
            <a:srcRect l="0" t="0" r="7210" b="2790"/>
            <a:stretch/>
          </p:blipFill>
          <p:spPr>
            <a:xfrm>
              <a:off x="4481640" y="250920"/>
              <a:ext cx="4662360" cy="62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 Box 32"/>
            <p:cNvSpPr/>
            <p:nvPr/>
          </p:nvSpPr>
          <p:spPr>
            <a:xfrm>
              <a:off x="6247080" y="534960"/>
              <a:ext cx="1062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38"/>
            <p:cNvSpPr/>
            <p:nvPr/>
          </p:nvSpPr>
          <p:spPr>
            <a:xfrm>
              <a:off x="6612120" y="1668240"/>
              <a:ext cx="32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39"/>
            <p:cNvSpPr/>
            <p:nvPr/>
          </p:nvSpPr>
          <p:spPr>
            <a:xfrm>
              <a:off x="6411960" y="2674800"/>
              <a:ext cx="722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40"/>
            <p:cNvSpPr/>
            <p:nvPr/>
          </p:nvSpPr>
          <p:spPr>
            <a:xfrm>
              <a:off x="6618600" y="3871440"/>
              <a:ext cx="32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Text Box 41"/>
            <p:cNvSpPr/>
            <p:nvPr/>
          </p:nvSpPr>
          <p:spPr>
            <a:xfrm>
              <a:off x="6402600" y="4951080"/>
              <a:ext cx="728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yro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42"/>
            <p:cNvSpPr/>
            <p:nvPr/>
          </p:nvSpPr>
          <p:spPr>
            <a:xfrm>
              <a:off x="6224760" y="6084360"/>
              <a:ext cx="274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43"/>
            <p:cNvSpPr/>
            <p:nvPr/>
          </p:nvSpPr>
          <p:spPr>
            <a:xfrm>
              <a:off x="7021800" y="6090840"/>
              <a:ext cx="274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0" name="Picture 2" descr="45_10GravesDisease_UP"/>
          <p:cNvPicPr/>
          <p:nvPr/>
        </p:nvPicPr>
        <p:blipFill>
          <a:blip r:embed="rId2"/>
          <a:stretch/>
        </p:blipFill>
        <p:spPr>
          <a:xfrm>
            <a:off x="652320" y="4545000"/>
            <a:ext cx="3329280" cy="1989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280800" y="973080"/>
            <a:ext cx="40258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raves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Calibri"/>
              </a:rPr>
              <a:t>’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Dise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oimmune dis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tibodies bind to TSH recep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perthyroid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temp, sweating, weight loss, high B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18840" y="-360"/>
            <a:ext cx="64134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tress and the Adrenal 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42" descr="45_21_AdrenalGlandStress-L.jpg"/>
          <p:cNvPicPr/>
          <p:nvPr/>
        </p:nvPicPr>
        <p:blipFill>
          <a:blip r:embed="rId1"/>
          <a:stretch/>
        </p:blipFill>
        <p:spPr>
          <a:xfrm>
            <a:off x="669960" y="976320"/>
            <a:ext cx="76341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bolic-Androgenic Steroid (AAS)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26960" y="1352160"/>
            <a:ext cx="844560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lly prescribed to treat hormone deficiency, loss of muscle mass (cancer, AI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enhance performance and improve physical appea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2" descr="45_14Gynecomastia_UP"/>
          <p:cNvPicPr/>
          <p:nvPr/>
        </p:nvPicPr>
        <p:blipFill>
          <a:blip r:embed="rId1"/>
          <a:stretch/>
        </p:blipFill>
        <p:spPr>
          <a:xfrm>
            <a:off x="3525840" y="3095640"/>
            <a:ext cx="365292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AAS Abuse</a:t>
            </a:r>
            <a:br>
              <a:rPr sz="4400"/>
            </a:b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ource: www.drugabuse.gov/infofacts/steroid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95280" y="1322280"/>
            <a:ext cx="4038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g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 mood sw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r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und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uid ret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blood pres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in LDL (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oleste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s in HDL (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oleste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al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 ac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127040" y="1371600"/>
            <a:ext cx="50166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shrinking of the testicles, reduced sperm count, infertility, baldness, development of breasts, increased risk for prostate canc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om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growth of facial hair, male-pattern baldness, changes in or cessation of the menstrual cycle, enlargement of the clitoris, deepened vo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dolesce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stunted growth due to premature skeletal maturation and accelerated puberty changes; risk of not reaching expected height if AAS is taken before the typical adolescent growth sp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, people who inject AAS run the added risk of contracting or transmitting HIV/AIDS or hepatit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45 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peptide hormones to 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insulin and glucagon work to regulate blood sugar le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glands and hormones respond when your body is under str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45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Hormones and the Endocrine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3" descr="45_01AniseSwallowtail-L.jpg"/>
          <p:cNvPicPr/>
          <p:nvPr/>
        </p:nvPicPr>
        <p:blipFill>
          <a:blip r:embed="rId1"/>
          <a:stretch/>
        </p:blipFill>
        <p:spPr>
          <a:xfrm>
            <a:off x="1401840" y="1689120"/>
            <a:ext cx="6345000" cy="4827600"/>
          </a:xfrm>
          <a:prstGeom prst="rect">
            <a:avLst/>
          </a:prstGeom>
          <a:ln w="0">
            <a:noFill/>
          </a:ln>
        </p:spPr>
      </p:pic>
      <p:sp>
        <p:nvSpPr>
          <p:cNvPr id="507" name="TextBox 4"/>
          <p:cNvSpPr/>
          <p:nvPr/>
        </p:nvSpPr>
        <p:spPr>
          <a:xfrm>
            <a:off x="371520" y="6400800"/>
            <a:ext cx="83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hormone called ecdysteroid regulates the timing of metamorphosis in this anise swallowtail butterf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must k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ways hormones affect target org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cretion, target, action, and regulation of at least 3 horm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llustration of both positive and negative feedback in the regulation of homeostasis by horm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16120" y="20160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Intercellular Sign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5" descr="45_02_IntercellularCom-L.jpg"/>
          <p:cNvPicPr/>
          <p:nvPr/>
        </p:nvPicPr>
        <p:blipFill>
          <a:blip r:embed="rId1"/>
          <a:stretch/>
        </p:blipFill>
        <p:spPr>
          <a:xfrm>
            <a:off x="4834080" y="0"/>
            <a:ext cx="375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258840" y="457200"/>
            <a:ext cx="86868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docrine Syste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Hormone-secreting cells + T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docrine gl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uctless, secrete hormones directly into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hemical signals that cause a response i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arget cel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ceptor proteins for specific hormo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1 tissue, a few, or most tissues in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affect other endocrine glands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opic hormo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 b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sitive &amp; Negative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3" name=""/>
          <p:cNvGraphicFramePr/>
          <p:nvPr/>
        </p:nvGraphicFramePr>
        <p:xfrm>
          <a:off x="434880" y="1004760"/>
          <a:ext cx="8267760" cy="4664160"/>
        </p:xfrm>
        <a:graphic>
          <a:graphicData uri="http://schemas.openxmlformats.org/drawingml/2006/table">
            <a:tbl>
              <a:tblPr/>
              <a:tblGrid>
                <a:gridCol w="2756160"/>
                <a:gridCol w="2755800"/>
                <a:gridCol w="2755800"/>
              </a:tblGrid>
              <a:tr h="1067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eromo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mo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cal Regulato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25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signal from 1 individual to another indivi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signal from endocrine gland through blood to target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signal from one cell to an adjacent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 ant trail; sex pherm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 peptide, steroid horm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 cytokines, growth factors, nitric oxide (N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45_04HumEndocrineGlands-L.jpg"/>
          <p:cNvPicPr/>
          <p:nvPr/>
        </p:nvPicPr>
        <p:blipFill>
          <a:blip r:embed="rId1"/>
          <a:stretch/>
        </p:blipFill>
        <p:spPr>
          <a:xfrm>
            <a:off x="1308240" y="136440"/>
            <a:ext cx="65275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21:42:59Z</dcterms:created>
  <dc:creator>System_70</dc:creator>
  <dc:description/>
  <dc:language>en-US</dc:language>
  <cp:lastModifiedBy>local</cp:lastModifiedBy>
  <cp:lastPrinted>2006-05-03T13:42:43Z</cp:lastPrinted>
  <dcterms:modified xsi:type="dcterms:W3CDTF">2013-02-28T18:00:52Z</dcterms:modified>
  <cp:revision>1493</cp:revision>
  <dc:subject/>
  <dc:title>LE 01-10b</dc:title>
</cp:coreProperties>
</file>